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1E25-583F-4A8D-97AB-D5C8B7E7FD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D7F9-5097-4353-974D-46783D952018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E99-BC49-44FD-902D-C8537526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109-0732-4FB3-B0B5-FA90C90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8F9-0D49-47E0-9D67-A61F0CAC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E13-06BB-49B3-A4D5-E6029682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AE6-A0B2-4FBC-B685-DCEA0254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39F-A89B-40D5-9119-F0286DC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C03-B40B-4BC7-BF2A-E4F3E3A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FF8-254A-4FB4-A731-84E6A72E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FE5-FA60-46DE-96D0-8C880C2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512-2B32-4922-9332-B4DA382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2AF-98E4-4229-9AD8-F44B325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215-78C3-47E8-BDE9-DEACF42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CFEA-EDA4-405B-B8FC-27EC493740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odsumowanie trzeciego roku 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a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anking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zycja w rankingu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kazuje jak radzicie sobie na tle innych zespołów w klas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miętajcie o przemyśleniu wszystkich decyzji, a na pewno zajmiecie wysokie miejs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wartość rankingu ma wpły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nik ekonomiczny firm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czynnik satysfak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czynnik zrównoważonego rozwo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upa 3"/>
          <p:cNvGrpSpPr/>
          <p:nvPr/>
        </p:nvGrpSpPr>
        <p:grpSpPr>
          <a:xfrm>
            <a:off x="324000" y="130320"/>
            <a:ext cx="8627760" cy="6330960"/>
            <a:chOff x="324000" y="130320"/>
            <a:chExt cx="8627760" cy="6330960"/>
          </a:xfrm>
        </p:grpSpPr>
        <p:sp>
          <p:nvSpPr>
            <p:cNvPr id="54" name="Prostokąt zaokrąglony 13"/>
            <p:cNvSpPr/>
            <p:nvPr/>
          </p:nvSpPr>
          <p:spPr>
            <a:xfrm>
              <a:off x="4054320" y="130320"/>
              <a:ext cx="1168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artość rankingu Wynik firmy/zespoł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Łącznik prosty ze strzałką 4"/>
            <p:cNvCxnSpPr/>
            <p:nvPr/>
          </p:nvCxnSpPr>
          <p:spPr>
            <a:xfrm flipV="1">
              <a:off x="4187880" y="2829960"/>
              <a:ext cx="33660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" name="Łącznik prosty ze strzałką 5"/>
            <p:cNvCxnSpPr/>
            <p:nvPr/>
          </p:nvCxnSpPr>
          <p:spPr>
            <a:xfrm flipH="1" flipV="1">
              <a:off x="4863240" y="2829960"/>
              <a:ext cx="88020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Łącznik prosty ze strzałką 6"/>
            <p:cNvCxnSpPr/>
            <p:nvPr/>
          </p:nvCxnSpPr>
          <p:spPr>
            <a:xfrm flipV="1">
              <a:off x="7283160" y="2829960"/>
              <a:ext cx="51804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Łącznik prosty ze strzałką 7"/>
            <p:cNvCxnSpPr/>
            <p:nvPr/>
          </p:nvCxnSpPr>
          <p:spPr>
            <a:xfrm flipH="1" flipV="1">
              <a:off x="8071920" y="2829960"/>
              <a:ext cx="43560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Łącznik prosty ze strzałką 8"/>
            <p:cNvCxnSpPr/>
            <p:nvPr/>
          </p:nvCxnSpPr>
          <p:spPr>
            <a:xfrm flipV="1">
              <a:off x="999720" y="2829960"/>
              <a:ext cx="518040" cy="1384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Łącznik prosty ze strzałką 9"/>
            <p:cNvCxnSpPr/>
            <p:nvPr/>
          </p:nvCxnSpPr>
          <p:spPr>
            <a:xfrm flipH="1" flipV="1">
              <a:off x="1778760" y="2829960"/>
              <a:ext cx="9900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" name="Łącznik prosty ze strzałką 10"/>
            <p:cNvCxnSpPr/>
            <p:nvPr/>
          </p:nvCxnSpPr>
          <p:spPr>
            <a:xfrm flipH="1" flipV="1">
              <a:off x="2075760" y="2829960"/>
              <a:ext cx="781560" cy="1461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" name="Łącznik prosty ze strzałką 11"/>
            <p:cNvCxnSpPr/>
            <p:nvPr/>
          </p:nvCxnSpPr>
          <p:spPr>
            <a:xfrm flipH="1" flipV="1">
              <a:off x="5151240" y="805680"/>
              <a:ext cx="2384640" cy="139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" name="Łącznik prosty ze strzałką 12"/>
            <p:cNvCxnSpPr/>
            <p:nvPr/>
          </p:nvCxnSpPr>
          <p:spPr>
            <a:xfrm flipH="1" flipV="1">
              <a:off x="4720680" y="998280"/>
              <a:ext cx="1080" cy="1085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4" name="Prostokąt zaokrąglony 14"/>
            <p:cNvSpPr/>
            <p:nvPr/>
          </p:nvSpPr>
          <p:spPr>
            <a:xfrm>
              <a:off x="1297080" y="2021040"/>
              <a:ext cx="1101600" cy="82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ynik ekonomiczn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Prostokąt zaokrąglony 15"/>
            <p:cNvSpPr/>
            <p:nvPr/>
          </p:nvSpPr>
          <p:spPr>
            <a:xfrm>
              <a:off x="7283520" y="2021040"/>
              <a:ext cx="1158840" cy="82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spółczynnik zrównoważonego rozwoj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Prostokąt zaokrąglony 16"/>
            <p:cNvSpPr/>
            <p:nvPr/>
          </p:nvSpPr>
          <p:spPr>
            <a:xfrm>
              <a:off x="4125960" y="2021040"/>
              <a:ext cx="1168200" cy="82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spółczynnik satysfakcji interesariusz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Prostokąt zaokrąglony 17"/>
            <p:cNvSpPr/>
            <p:nvPr/>
          </p:nvSpPr>
          <p:spPr>
            <a:xfrm>
              <a:off x="426960" y="4097520"/>
              <a:ext cx="95220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Zyskowność firm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Prostokąt zaokrąglony 18"/>
            <p:cNvSpPr/>
            <p:nvPr/>
          </p:nvSpPr>
          <p:spPr>
            <a:xfrm>
              <a:off x="1584360" y="4097520"/>
              <a:ext cx="90468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zadłużenia firm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Prostokąt zaokrąglony 19"/>
            <p:cNvSpPr/>
            <p:nvPr/>
          </p:nvSpPr>
          <p:spPr>
            <a:xfrm>
              <a:off x="2690640" y="4097520"/>
              <a:ext cx="83016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artość udział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Prostokąt zaokrąglony 20"/>
            <p:cNvSpPr/>
            <p:nvPr/>
          </p:nvSpPr>
          <p:spPr>
            <a:xfrm>
              <a:off x="3992400" y="4097520"/>
              <a:ext cx="96192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satysfakcji pracowników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Prostokąt zaokrąglony 21"/>
            <p:cNvSpPr/>
            <p:nvPr/>
          </p:nvSpPr>
          <p:spPr>
            <a:xfrm>
              <a:off x="5427720" y="4097520"/>
              <a:ext cx="85248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skaźnik satysfakcji klient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Prostokąt zaokrąglony 22"/>
            <p:cNvSpPr/>
            <p:nvPr/>
          </p:nvSpPr>
          <p:spPr>
            <a:xfrm>
              <a:off x="6811920" y="4097520"/>
              <a:ext cx="91260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deks odpowiedzial</a:t>
              </a:r>
              <a:r>
                <a:rPr b="0" lang="pl-PL" sz="7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- </a:t>
              </a:r>
              <a:r>
                <a:rPr b="0" lang="pl-PL" sz="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go biznesu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Prostokąt zaokrąglony 23"/>
            <p:cNvSpPr/>
            <p:nvPr/>
          </p:nvSpPr>
          <p:spPr>
            <a:xfrm>
              <a:off x="8072280" y="4097520"/>
              <a:ext cx="879480" cy="82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deks ekologicznego biznesu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" name="Łącznik prosty ze strzałką 24"/>
            <p:cNvCxnSpPr/>
            <p:nvPr/>
          </p:nvCxnSpPr>
          <p:spPr>
            <a:xfrm flipV="1">
              <a:off x="1963800" y="805680"/>
              <a:ext cx="2162880" cy="12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5" name="Elipsa 25"/>
            <p:cNvSpPr/>
            <p:nvPr/>
          </p:nvSpPr>
          <p:spPr>
            <a:xfrm>
              <a:off x="3594240" y="593640"/>
              <a:ext cx="393480" cy="452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Elipsa 26"/>
            <p:cNvSpPr/>
            <p:nvPr/>
          </p:nvSpPr>
          <p:spPr>
            <a:xfrm>
              <a:off x="2086560" y="27774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Elipsa 27"/>
            <p:cNvSpPr/>
            <p:nvPr/>
          </p:nvSpPr>
          <p:spPr>
            <a:xfrm>
              <a:off x="1123200" y="27774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Elipsa 28"/>
            <p:cNvSpPr/>
            <p:nvPr/>
          </p:nvSpPr>
          <p:spPr>
            <a:xfrm>
              <a:off x="5294880" y="65736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Elipsa 29"/>
            <p:cNvSpPr/>
            <p:nvPr/>
          </p:nvSpPr>
          <p:spPr>
            <a:xfrm>
              <a:off x="4618440" y="10087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Elipsa 30"/>
            <p:cNvSpPr/>
            <p:nvPr/>
          </p:nvSpPr>
          <p:spPr>
            <a:xfrm>
              <a:off x="4187880" y="27774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Elipsa 31"/>
            <p:cNvSpPr/>
            <p:nvPr/>
          </p:nvSpPr>
          <p:spPr>
            <a:xfrm>
              <a:off x="4905360" y="27774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Elipsa 32"/>
            <p:cNvSpPr/>
            <p:nvPr/>
          </p:nvSpPr>
          <p:spPr>
            <a:xfrm>
              <a:off x="7436880" y="281988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Elipsa 33"/>
            <p:cNvSpPr/>
            <p:nvPr/>
          </p:nvSpPr>
          <p:spPr>
            <a:xfrm>
              <a:off x="8072280" y="284112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a 34"/>
            <p:cNvSpPr/>
            <p:nvPr/>
          </p:nvSpPr>
          <p:spPr>
            <a:xfrm>
              <a:off x="1676880" y="283068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Dowolny kształt 35"/>
            <p:cNvSpPr/>
            <p:nvPr/>
          </p:nvSpPr>
          <p:spPr>
            <a:xfrm>
              <a:off x="1123920" y="4929480"/>
              <a:ext cx="3492360" cy="725400"/>
            </a:xfrm>
            <a:custGeom>
              <a:avLst/>
              <a:gdLst/>
              <a:ahLst/>
              <a:rect l="l" t="t" r="r" b="b"/>
              <a:pathLst>
                <a:path w="4314825" h="809625">
                  <a:moveTo>
                    <a:pt x="4314825" y="0"/>
                  </a:moveTo>
                  <a:cubicBezTo>
                    <a:pt x="3526631" y="404812"/>
                    <a:pt x="2738437" y="809625"/>
                    <a:pt x="2019300" y="809625"/>
                  </a:cubicBezTo>
                  <a:cubicBezTo>
                    <a:pt x="1300163" y="809625"/>
                    <a:pt x="650081" y="404812"/>
                    <a:pt x="0" y="0"/>
                  </a:cubicBezTo>
                </a:path>
              </a:pathLst>
            </a:custGeom>
            <a:noFill/>
            <a:ln w="25560">
              <a:solidFill>
                <a:srgbClr val="f79646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Dowolny kształt 36"/>
            <p:cNvSpPr/>
            <p:nvPr/>
          </p:nvSpPr>
          <p:spPr>
            <a:xfrm>
              <a:off x="785880" y="4929480"/>
              <a:ext cx="4751280" cy="1093680"/>
            </a:xfrm>
            <a:custGeom>
              <a:avLst/>
              <a:gdLst/>
              <a:ahLst/>
              <a:rect l="l" t="t" r="r" b="b"/>
              <a:pathLst>
                <a:path w="4314825" h="809625">
                  <a:moveTo>
                    <a:pt x="4314825" y="0"/>
                  </a:moveTo>
                  <a:cubicBezTo>
                    <a:pt x="3526631" y="404812"/>
                    <a:pt x="2738437" y="809625"/>
                    <a:pt x="2019300" y="809625"/>
                  </a:cubicBezTo>
                  <a:cubicBezTo>
                    <a:pt x="1300163" y="809625"/>
                    <a:pt x="650081" y="404812"/>
                    <a:pt x="0" y="0"/>
                  </a:cubicBezTo>
                </a:path>
              </a:pathLst>
            </a:custGeom>
            <a:noFill/>
            <a:ln w="25560">
              <a:solidFill>
                <a:srgbClr val="f79646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Dowolny kształt 37"/>
            <p:cNvSpPr/>
            <p:nvPr/>
          </p:nvSpPr>
          <p:spPr>
            <a:xfrm>
              <a:off x="1246320" y="4918320"/>
              <a:ext cx="1750680" cy="393480"/>
            </a:xfrm>
            <a:custGeom>
              <a:avLst/>
              <a:gdLst/>
              <a:ahLst/>
              <a:rect l="l" t="t" r="r" b="b"/>
              <a:pathLst>
                <a:path w="2028825" h="438158">
                  <a:moveTo>
                    <a:pt x="0" y="0"/>
                  </a:moveTo>
                  <a:cubicBezTo>
                    <a:pt x="316706" y="218281"/>
                    <a:pt x="633413" y="436563"/>
                    <a:pt x="971550" y="438150"/>
                  </a:cubicBezTo>
                  <a:cubicBezTo>
                    <a:pt x="1309687" y="439737"/>
                    <a:pt x="1669256" y="224631"/>
                    <a:pt x="2028825" y="9525"/>
                  </a:cubicBezTo>
                </a:path>
              </a:pathLst>
            </a:custGeom>
            <a:noFill/>
            <a:ln w="25560">
              <a:solidFill>
                <a:srgbClr val="385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Dowolny kształt 38"/>
            <p:cNvSpPr/>
            <p:nvPr/>
          </p:nvSpPr>
          <p:spPr>
            <a:xfrm>
              <a:off x="324000" y="4918320"/>
              <a:ext cx="8132760" cy="1542960"/>
            </a:xfrm>
            <a:custGeom>
              <a:avLst/>
              <a:gdLst/>
              <a:ahLst/>
              <a:rect l="l" t="t" r="r" b="b"/>
              <a:pathLst>
                <a:path w="9422991" h="1720097">
                  <a:moveTo>
                    <a:pt x="9422991" y="19050"/>
                  </a:moveTo>
                  <a:cubicBezTo>
                    <a:pt x="7115559" y="754856"/>
                    <a:pt x="4808128" y="1490663"/>
                    <a:pt x="3269841" y="1676400"/>
                  </a:cubicBezTo>
                  <a:cubicBezTo>
                    <a:pt x="1731554" y="1862137"/>
                    <a:pt x="686978" y="1412875"/>
                    <a:pt x="193266" y="1133475"/>
                  </a:cubicBezTo>
                  <a:cubicBezTo>
                    <a:pt x="-300446" y="854075"/>
                    <a:pt x="307566" y="0"/>
                    <a:pt x="307566" y="0"/>
                  </a:cubicBezTo>
                  <a:lnTo>
                    <a:pt x="307566" y="0"/>
                  </a:lnTo>
                </a:path>
              </a:pathLst>
            </a:custGeom>
            <a:noFill/>
            <a:ln w="25560">
              <a:solidFill>
                <a:srgbClr val="9bbb59"/>
              </a:solidFill>
              <a:round/>
              <a:tailEnd len="med" type="arrow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Dowolny kształt 39"/>
            <p:cNvSpPr/>
            <p:nvPr/>
          </p:nvSpPr>
          <p:spPr>
            <a:xfrm>
              <a:off x="4710240" y="4929480"/>
              <a:ext cx="2392200" cy="512640"/>
            </a:xfrm>
            <a:custGeom>
              <a:avLst/>
              <a:gdLst/>
              <a:ahLst/>
              <a:rect l="l" t="t" r="r" b="b"/>
              <a:pathLst>
                <a:path w="2771775" h="571506">
                  <a:moveTo>
                    <a:pt x="0" y="9525"/>
                  </a:moveTo>
                  <a:cubicBezTo>
                    <a:pt x="640556" y="291306"/>
                    <a:pt x="1281113" y="573087"/>
                    <a:pt x="1743075" y="571500"/>
                  </a:cubicBezTo>
                  <a:cubicBezTo>
                    <a:pt x="2205037" y="569913"/>
                    <a:pt x="2488406" y="284956"/>
                    <a:pt x="2771775" y="0"/>
                  </a:cubicBezTo>
                </a:path>
              </a:pathLst>
            </a:custGeom>
            <a:noFill/>
            <a:ln w="25560">
              <a:solidFill>
                <a:srgbClr val="385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ipsa 40"/>
            <p:cNvSpPr/>
            <p:nvPr/>
          </p:nvSpPr>
          <p:spPr>
            <a:xfrm>
              <a:off x="7236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ipsa 41"/>
            <p:cNvSpPr/>
            <p:nvPr/>
          </p:nvSpPr>
          <p:spPr>
            <a:xfrm>
              <a:off x="3852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ipsa 42"/>
            <p:cNvSpPr/>
            <p:nvPr/>
          </p:nvSpPr>
          <p:spPr>
            <a:xfrm>
              <a:off x="6822000" y="485460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ipsa 43"/>
            <p:cNvSpPr/>
            <p:nvPr/>
          </p:nvSpPr>
          <p:spPr>
            <a:xfrm>
              <a:off x="2742840" y="4833360"/>
              <a:ext cx="394560" cy="452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ynik ekonomiczny firm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nik ekonomiczn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iloczyn poniższych wskaźnik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eżąca zyskowność firmy = zysk netto / liczba udziałów (raport finansow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kaźnik zadłużenia firmy = całkowite zadłużenie / wartość firmy (raport operacyjn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rtość udziału = wartość firmy / liczba udziałów (raport operacyjn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nik ekonomiczn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awany jest w PL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Współczynnik satysfakcji interesariuszy</a:t>
            </a:r>
            <a:r>
              <a:rPr b="1" lang="pl-PL" sz="4000" spc="-1" strike="noStrike">
                <a:solidFill>
                  <a:srgbClr val="37609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półczynnik satysfakcji interesariusz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zwierciedla poziom zadowolenia klientów i pracowników.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wracaj uwagę na obie grupy jeżeli chcesz osiągnąć dobrą pozycję w ranking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D:\Data\awinniczuk\AppData\Local\Microsoft\Windows\Temporary Internet Files\Content.IE5\KGROFAG8\dglxasset[1].aspx"/>
          <p:cNvPicPr/>
          <p:nvPr/>
        </p:nvPicPr>
        <p:blipFill>
          <a:blip r:embed="rId1"/>
          <a:stretch/>
        </p:blipFill>
        <p:spPr>
          <a:xfrm>
            <a:off x="6516720" y="4869000"/>
            <a:ext cx="22320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376092"/>
                </a:solidFill>
                <a:latin typeface="Calibri"/>
              </a:rPr>
              <a:t>Współczynnik zrównoważonego rozwoju</a:t>
            </a:r>
            <a:endParaRPr b="1" lang="en-US" sz="5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ganizacje osiągające najwyższe wskaźniki zrównoważonego rozwoju potrafią łączyć działalność biznesową ze wspieraniem społecznego i ekologicznego otoczenia fir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anking po III roku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(miejsce na wklejenie rankingu dla danej gru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Inne</a:t>
            </a:r>
            <a:r>
              <a:rPr b="1" lang="pl-PL" sz="6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gadnieni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adto w trzecim roku działalności hotelu dowiedzieliście się 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rudnieniu i bezroboci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arunkach wynagradzania pracowni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ach zatrudniania pracowni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tawach zarządzania ludź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D:\Data\awinniczuk\AppData\Local\Microsoft\Windows\Temporary Internet Files\Content.IE5\KGROFAG8\MC900230410[1].wmf"/>
          <p:cNvPicPr/>
          <p:nvPr/>
        </p:nvPicPr>
        <p:blipFill>
          <a:blip r:embed="rId1"/>
          <a:stretch/>
        </p:blipFill>
        <p:spPr>
          <a:xfrm>
            <a:off x="6765840" y="4292640"/>
            <a:ext cx="21034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45:56Z</dcterms:modified>
  <cp:revision>28</cp:revision>
  <dc:subject/>
  <dc:title>Slajd 1</dc:title>
</cp:coreProperties>
</file>